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8D3B-9EA2-43F8-8E5E-C5B02331E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01F3-4B03-4850-ABA3-868CE936EA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4807-3B7B-41AB-B424-205D0A0371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3066-0F1C-40C5-8076-6AFDABE96B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6718-67F4-4E20-AEAC-26C91DEB86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4FFE-30F6-44F1-9388-91BB093D03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8125-6055-41A9-920B-B5214BCCE8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5836-CCF7-422B-9A6E-CC57029BF1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A0AE-DC39-4E86-8CC7-1DBCFCB706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8ACC-54BB-44C9-905C-D9ABABAB48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285E-504E-4073-A370-DAC0ED964C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76E-5749-45AA-9AE6-06BFCD11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2F6-89FF-453A-836A-EDC7C4D1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B28-E805-48AB-88A1-787BC9F6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3AD-2E18-4DFE-AA67-B07B204B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48C4-1344-4E57-8EB3-A746BD32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AF65-E8DD-4738-AFD8-8CDD9AB8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8C64-046E-46A3-93DA-D455C654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DD09-D523-436D-A428-2C3EDF9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A807-A8B4-46A4-9AE4-EBC53A48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6300-7C54-4BE1-88ED-A90B5CEA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80B6-C0A7-49D1-9722-0BBBD02D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D82-306C-4A91-A7F7-84527D9C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45CF-D5EC-40B3-A3C8-E7C5F3F3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98CF-56D2-4840-A2E3-DA3BF08F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4141-2BD4-4A77-BE84-B4177D2D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A7F9-E8FC-4D9B-8C2B-05B1A678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6790-BE0F-451E-9AC2-F35676B0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46C-9EE9-4E18-A109-B3A4ABC8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1CA-E5E4-498D-84DB-6C09935E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120-6FFB-4762-AE10-29DA8B04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C94-7D7C-44A5-A6E6-4B01D0E8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404-14C7-43FD-BA4F-1B8ED79D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7FC-1CB6-4DDE-9AF9-721B6339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33A-17C3-4C5D-822D-665EF035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564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9600" y="42951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0080" y="39985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7920" y="37396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7120" y="342288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8560" y="31687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6280" y="26254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0560" y="236916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600" y="2085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5440" y="18151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3880" y="428040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B9B9-7138-4521-AC19-75B686060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3920" y="798480"/>
            <a:ext cx="7084080" cy="6861600"/>
            <a:chOff x="-313920" y="798480"/>
            <a:chExt cx="7084080" cy="686160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3920" y="798480"/>
              <a:ext cx="7084080" cy="6861600"/>
              <a:chOff x="-313920" y="798480"/>
              <a:chExt cx="7084080" cy="68616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3920" y="798480"/>
                <a:ext cx="7084080" cy="6861600"/>
                <a:chOff x="-313920" y="798480"/>
                <a:chExt cx="7084080" cy="686160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3920" y="798480"/>
                  <a:ext cx="7084080" cy="6861600"/>
                  <a:chOff x="-313920" y="798480"/>
                  <a:chExt cx="7084080" cy="686160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3920" y="798480"/>
                    <a:ext cx="7084080" cy="6861600"/>
                    <a:chOff x="-313920" y="798480"/>
                    <a:chExt cx="7084080" cy="686160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66"/>
                    <p:cNvGrpSpPr/>
                    <p:nvPr/>
                  </p:nvGrpSpPr>
                  <p:grpSpPr>
                    <a:xfrm>
                      <a:off x="-313920" y="805680"/>
                      <a:ext cx="7074360" cy="6854400"/>
                      <a:chOff x="-313920" y="805680"/>
                      <a:chExt cx="7074360" cy="685440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3920" y="805680"/>
                        <a:ext cx="7074360" cy="6854400"/>
                        <a:chOff x="-313920" y="805680"/>
                        <a:chExt cx="7074360" cy="685440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3920" y="1282320"/>
                          <a:ext cx="6462720" cy="6377760"/>
                          <a:chOff x="-313920" y="128232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052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9160" y="292644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408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004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0960" y="155628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63920" cy="4694040"/>
              <a:chOff x="1800" y="2127240"/>
              <a:chExt cx="526392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7480" y="2127240"/>
                <a:ext cx="498240" cy="490680"/>
                <a:chOff x="4767480" y="2127240"/>
                <a:chExt cx="498240" cy="4906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83320" y="2350080"/>
                  <a:ext cx="31428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80520" y="2249280"/>
                  <a:ext cx="25632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66560" y="2238120"/>
                  <a:ext cx="18288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30280" y="2134800"/>
                  <a:ext cx="229320" cy="21996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77160" y="2127240"/>
                  <a:ext cx="8856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9382-42FE-436E-A64E-DD7B47DDC9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saexplores.com/show_k4_teacher_st.php?id=03110692124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3160" y="1244520"/>
            <a:ext cx="8835840" cy="401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3d8"/>
                </a:solidFill>
                <a:latin typeface="Engravers MT"/>
              </a:rPr>
              <a:t>How GPS</a:t>
            </a:r>
            <a:br>
              <a:rPr sz="5400"/>
            </a:br>
            <a:r>
              <a:rPr b="1" lang="en-US" sz="5400" spc="-1" strike="noStrike">
                <a:solidFill>
                  <a:srgbClr val="e4e3d8"/>
                </a:solidFill>
                <a:latin typeface="Engravers MT"/>
              </a:rPr>
              <a:t> </a:t>
            </a:r>
            <a:br>
              <a:rPr sz="5400"/>
            </a:br>
            <a:r>
              <a:rPr b="1" lang="en-US" sz="4700" spc="-1" strike="noStrike">
                <a:solidFill>
                  <a:srgbClr val="e4e3d8"/>
                </a:solidFill>
                <a:latin typeface="Arial"/>
              </a:rPr>
              <a:t>(Global Positioning System)</a:t>
            </a:r>
            <a:br>
              <a:rPr sz="4700"/>
            </a:br>
            <a:br>
              <a:rPr sz="4700"/>
            </a:br>
            <a:r>
              <a:rPr b="1" lang="en-US" sz="4700" spc="-1" strike="noStrike">
                <a:solidFill>
                  <a:srgbClr val="e4e3d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e4e3d8"/>
                </a:solidFill>
                <a:latin typeface="Engravers MT"/>
              </a:rPr>
              <a:t>Works: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0" y="6188040"/>
            <a:ext cx="9144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nasaexplores.com/show_k4_teacher_st.php?id=031106921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For Help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427640" y="1616040"/>
            <a:ext cx="3657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ynn Vaugh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STI-GLOB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ource Special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ynn@amsti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457200" y="3836880"/>
            <a:ext cx="3657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bin Nel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STI-GLOB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ministr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bin@amsti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386240" y="3713040"/>
            <a:ext cx="3657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STI-GLOB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ww.amsti.org/glob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4430880" y="4780080"/>
            <a:ext cx="3657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LOB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ww.globe.gov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533520" y="1600200"/>
            <a:ext cx="3657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erry Cobb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STI-GLOB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 Special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erry@amsti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1"/>
          <p:cNvSpPr/>
          <p:nvPr/>
        </p:nvSpPr>
        <p:spPr>
          <a:xfrm>
            <a:off x="5573880" y="2039760"/>
            <a:ext cx="3184200" cy="3003840"/>
          </a:xfrm>
          <a:prstGeom prst="rect">
            <a:avLst/>
          </a:prstGeom>
          <a:gradFill rotWithShape="0">
            <a:gsLst>
              <a:gs pos="0">
                <a:srgbClr val="f4f4f0"/>
              </a:gs>
              <a:gs pos="100000">
                <a:srgbClr val="e4e3d8"/>
              </a:gs>
            </a:gsLst>
            <a:lin ang="5400000"/>
          </a:gradFill>
          <a:ln w="28440">
            <a:solidFill>
              <a:srgbClr val="666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73160" y="1230120"/>
            <a:ext cx="5486400" cy="470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agine you are somewhere in your town. You are TOTALLY lost. You ask someone, “Where am I?” They say, “You are 5 miles from the fire station.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nice, but it really does not help you. You could be anywhere on a circle 5 miles around the fire station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1" name="Group 10"/>
          <p:cNvGrpSpPr/>
          <p:nvPr/>
        </p:nvGrpSpPr>
        <p:grpSpPr>
          <a:xfrm>
            <a:off x="5562720" y="2057400"/>
            <a:ext cx="3200400" cy="2981160"/>
            <a:chOff x="5562720" y="2057400"/>
            <a:chExt cx="3200400" cy="2981160"/>
          </a:xfrm>
        </p:grpSpPr>
        <p:pic>
          <p:nvPicPr>
            <p:cNvPr id="342" name="Picture 8" descr="A diagram showing a circle that represents possible locations."/>
            <p:cNvPicPr/>
            <p:nvPr/>
          </p:nvPicPr>
          <p:blipFill>
            <a:blip r:embed="rId1"/>
            <a:stretch/>
          </p:blipFill>
          <p:spPr>
            <a:xfrm>
              <a:off x="5562720" y="2057400"/>
              <a:ext cx="320040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9"/>
            <p:cNvSpPr/>
            <p:nvPr/>
          </p:nvSpPr>
          <p:spPr>
            <a:xfrm>
              <a:off x="7391520" y="35812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f45"/>
                  </a:solidFill>
                  <a:latin typeface="Verdana"/>
                </a:rPr>
                <a:t>5 mile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9"/>
          <p:cNvSpPr/>
          <p:nvPr/>
        </p:nvSpPr>
        <p:spPr>
          <a:xfrm>
            <a:off x="4995720" y="1608120"/>
            <a:ext cx="3927600" cy="2762280"/>
          </a:xfrm>
          <a:prstGeom prst="rect">
            <a:avLst/>
          </a:prstGeom>
          <a:gradFill rotWithShape="0">
            <a:gsLst>
              <a:gs pos="0">
                <a:srgbClr val="f4f4f0"/>
              </a:gs>
              <a:gs pos="100000">
                <a:srgbClr val="e4e3d8"/>
              </a:gs>
            </a:gsLst>
            <a:lin ang="5400000"/>
          </a:gradFill>
          <a:ln w="9360">
            <a:solidFill>
              <a:srgbClr val="666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60280" y="973080"/>
            <a:ext cx="4602240" cy="488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ask someone else where you are. They say, “You are 7 miles from the library.”  If you combine this information with the fire station information, you have two circles that cro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now know that you must be at one of these two points, if you are 5 miles from the fire station and 7 miles from the librar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8" descr="A diagram showing two circles intersecting at two points showing possible locations."/>
          <p:cNvPicPr/>
          <p:nvPr/>
        </p:nvPicPr>
        <p:blipFill>
          <a:blip r:embed="rId1"/>
          <a:stretch/>
        </p:blipFill>
        <p:spPr>
          <a:xfrm>
            <a:off x="5006880" y="1612800"/>
            <a:ext cx="38862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"/>
          <p:cNvSpPr/>
          <p:nvPr/>
        </p:nvSpPr>
        <p:spPr>
          <a:xfrm>
            <a:off x="4687920" y="1376280"/>
            <a:ext cx="4224240" cy="4197600"/>
          </a:xfrm>
          <a:prstGeom prst="rect">
            <a:avLst/>
          </a:prstGeom>
          <a:gradFill rotWithShape="0">
            <a:gsLst>
              <a:gs pos="0">
                <a:srgbClr val="f4f4f0"/>
              </a:gs>
              <a:gs pos="100000">
                <a:srgbClr val="e4e3d8"/>
              </a:gs>
            </a:gsLst>
            <a:lin ang="5400000"/>
          </a:gradFill>
          <a:ln w="28440">
            <a:solidFill>
              <a:srgbClr val="666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0" y="1169640"/>
            <a:ext cx="4495680" cy="494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hird person tells you that you are 4 miles from hom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circle will only cross the other circles at one poin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know exactly where you are. The only place all these circles cross is at the school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9" name="Picture 8" descr="A diagram showing 3 circles intersecting to show your location."/>
          <p:cNvPicPr/>
          <p:nvPr/>
        </p:nvPicPr>
        <p:blipFill>
          <a:blip r:embed="rId1"/>
          <a:stretch/>
        </p:blipFill>
        <p:spPr>
          <a:xfrm>
            <a:off x="4692600" y="1371600"/>
            <a:ext cx="42228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355680" y="1405080"/>
            <a:ext cx="8056440" cy="4178160"/>
          </a:xfrm>
          <a:prstGeom prst="rect">
            <a:avLst/>
          </a:prstGeom>
          <a:gradFill rotWithShape="0">
            <a:gsLst>
              <a:gs pos="0">
                <a:srgbClr val="080907">
                  <a:alpha val="38039"/>
                </a:srgbClr>
              </a:gs>
              <a:gs pos="100000">
                <a:srgbClr val="040403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75840" y="1836360"/>
            <a:ext cx="3870360" cy="3411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PS satellites work to the same way to find the location of a plane, ship, car, or a person lost in the cit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10" descr="GPS satellite"/>
          <p:cNvPicPr/>
          <p:nvPr/>
        </p:nvPicPr>
        <p:blipFill>
          <a:blip r:embed="rId1"/>
          <a:srcRect l="12436" t="6593" r="12051" b="12065"/>
          <a:stretch/>
        </p:blipFill>
        <p:spPr>
          <a:xfrm>
            <a:off x="4530600" y="1395360"/>
            <a:ext cx="37404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>
            <a:off x="4514760" y="1184400"/>
            <a:ext cx="4224600" cy="4186080"/>
          </a:xfrm>
          <a:prstGeom prst="rect">
            <a:avLst/>
          </a:prstGeom>
          <a:solidFill>
            <a:srgbClr val="e4e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92240" y="1199880"/>
            <a:ext cx="4147920" cy="3784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24 GPS satellites orbiting Earth right now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ore of them that your GPS will lock onto the more accurately your position can be determin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6" descr="GPS animation"/>
          <p:cNvPicPr/>
          <p:nvPr/>
        </p:nvPicPr>
        <p:blipFill>
          <a:blip r:embed="rId1"/>
          <a:stretch/>
        </p:blipFill>
        <p:spPr>
          <a:xfrm>
            <a:off x="4521240" y="1187280"/>
            <a:ext cx="4205160" cy="42055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7"/>
          <p:cNvSpPr/>
          <p:nvPr/>
        </p:nvSpPr>
        <p:spPr>
          <a:xfrm>
            <a:off x="7921800" y="5361120"/>
            <a:ext cx="84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NASA/JPL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0" y="1960200"/>
            <a:ext cx="3797280" cy="313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collecting the information from several satellites, a GPS unit can determine your exact location on Eart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8" name="Group 6"/>
          <p:cNvGrpSpPr/>
          <p:nvPr/>
        </p:nvGrpSpPr>
        <p:grpSpPr>
          <a:xfrm>
            <a:off x="3956040" y="1228680"/>
            <a:ext cx="4775040" cy="4633920"/>
            <a:chOff x="3956040" y="1228680"/>
            <a:chExt cx="4775040" cy="4633920"/>
          </a:xfrm>
        </p:grpSpPr>
        <p:sp>
          <p:nvSpPr>
            <p:cNvPr id="359" name="Rectangle 4"/>
            <p:cNvSpPr/>
            <p:nvPr/>
          </p:nvSpPr>
          <p:spPr>
            <a:xfrm>
              <a:off x="3956040" y="1258920"/>
              <a:ext cx="4775040" cy="4603680"/>
            </a:xfrm>
            <a:prstGeom prst="rect">
              <a:avLst/>
            </a:prstGeom>
            <a:gradFill rotWithShape="0">
              <a:gsLst>
                <a:gs pos="0">
                  <a:srgbClr val="e4e3d8"/>
                </a:gs>
                <a:gs pos="100000">
                  <a:srgbClr val="757868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360" name="Picture 5" descr="GPS determining position"/>
            <p:cNvPicPr/>
            <p:nvPr/>
          </p:nvPicPr>
          <p:blipFill>
            <a:blip r:embed="rId1"/>
            <a:stretch/>
          </p:blipFill>
          <p:spPr>
            <a:xfrm>
              <a:off x="3970080" y="1228680"/>
              <a:ext cx="4746240" cy="462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1"/>
          <p:cNvSpPr/>
          <p:nvPr/>
        </p:nvSpPr>
        <p:spPr>
          <a:xfrm>
            <a:off x="3859200" y="1935000"/>
            <a:ext cx="1252440" cy="199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Garmin GPS 7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3" name="Picture 4" descr="gps Garmin72"/>
          <p:cNvPicPr/>
          <p:nvPr/>
        </p:nvPicPr>
        <p:blipFill>
          <a:blip r:embed="rId1"/>
          <a:stretch/>
        </p:blipFill>
        <p:spPr>
          <a:xfrm>
            <a:off x="3537000" y="1600200"/>
            <a:ext cx="2070000" cy="45306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1604880" y="2300400"/>
            <a:ext cx="1654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5996160" y="2336760"/>
            <a:ext cx="165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2989440" y="2685960"/>
            <a:ext cx="898200" cy="59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Line 9"/>
          <p:cNvSpPr/>
          <p:nvPr/>
        </p:nvSpPr>
        <p:spPr>
          <a:xfrm flipH="1">
            <a:off x="4952880" y="2692440"/>
            <a:ext cx="1105200" cy="404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SCN3002"/>
          <p:cNvPicPr/>
          <p:nvPr/>
        </p:nvPicPr>
        <p:blipFill>
          <a:blip r:embed="rId1"/>
          <a:stretch/>
        </p:blipFill>
        <p:spPr>
          <a:xfrm>
            <a:off x="2017800" y="1736640"/>
            <a:ext cx="5230800" cy="50720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2"/>
          <p:cNvSpPr/>
          <p:nvPr/>
        </p:nvSpPr>
        <p:spPr>
          <a:xfrm>
            <a:off x="382680" y="5073480"/>
            <a:ext cx="2092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0" y="3624120"/>
            <a:ext cx="242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v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6721560" y="5970600"/>
            <a:ext cx="226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Line 15"/>
          <p:cNvSpPr/>
          <p:nvPr/>
        </p:nvSpPr>
        <p:spPr>
          <a:xfrm flipH="1" flipV="1">
            <a:off x="5087880" y="5592240"/>
            <a:ext cx="1595520" cy="61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Line 16"/>
          <p:cNvSpPr/>
          <p:nvPr/>
        </p:nvSpPr>
        <p:spPr>
          <a:xfrm flipV="1">
            <a:off x="2346480" y="5243400"/>
            <a:ext cx="1311120" cy="19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Line 17"/>
          <p:cNvSpPr/>
          <p:nvPr/>
        </p:nvSpPr>
        <p:spPr>
          <a:xfrm flipV="1">
            <a:off x="2154240" y="3959280"/>
            <a:ext cx="1805040" cy="5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Line 18"/>
          <p:cNvSpPr/>
          <p:nvPr/>
        </p:nvSpPr>
        <p:spPr>
          <a:xfrm flipH="1">
            <a:off x="5184360" y="4145040"/>
            <a:ext cx="1536840" cy="39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6723000" y="3740040"/>
            <a:ext cx="242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tell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318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at to look for and reco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7:17:26Z</dcterms:created>
  <dc:creator>Troy University</dc:creator>
  <dc:description/>
  <dc:language>en-US</dc:language>
  <cp:lastModifiedBy>lfowler</cp:lastModifiedBy>
  <dcterms:modified xsi:type="dcterms:W3CDTF">2011-07-15T19:18:43Z</dcterms:modified>
  <cp:revision>11</cp:revision>
  <dc:subject/>
  <dc:title>How GPS Works:</dc:title>
</cp:coreProperties>
</file>